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BEF-B7A4-4C49-906B-76803CD6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D99-86DF-4F7A-BD0C-4DA252F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FFB-7089-4CCA-8848-955DE92B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C33-3B74-45F2-8A7C-95940F5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7D0-9209-4FFC-B2CA-73E1D213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50A-730C-4278-8E0F-685824ED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C36-D1DA-477B-9824-8F8BC60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75B-F99A-4733-B39F-4697055A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A25-B2B1-4246-B5FB-99DBD8F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592-AC15-4A82-A10D-3C7ABF40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0DB-7F11-4AE6-85D1-AF12D9D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9A1-EB6A-44D0-8CF5-F3E3F5DA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708C-53B0-435F-AD2B-A963434D2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35:25Z</dcterms:created>
  <dc:creator>eTime</dc:creator>
  <dc:description/>
  <dc:language>en-US</dc:language>
  <cp:lastModifiedBy>eTime</cp:lastModifiedBy>
  <dcterms:modified xsi:type="dcterms:W3CDTF">2009-08-11T02:35:50Z</dcterms:modified>
  <cp:revision>1</cp:revision>
  <dc:subject/>
  <dc:title>Test</dc:title>
</cp:coreProperties>
</file>